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0.png" ContentType="image/png"/>
  <Override PartName="/ppt/media/image6.jpeg" ContentType="image/jpeg"/>
  <Override PartName="/ppt/media/image9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5.jpeg" ContentType="image/jpeg"/>
  <Override PartName="/ppt/media/image14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4B14C-5A8E-4137-A4F8-21B41D4E4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74BAB-DDFC-4314-84EA-3D54A20BE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655CC-0C1B-4CF8-9175-805C2539F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47514-3B4F-4B51-92CA-0A2BB80F0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6603E-4F23-4854-8051-EA3753E39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2AED8-18E8-4C00-B5E6-3FDB1028A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7453C-BDA4-4C89-B22F-43B096632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909C3-0760-4A09-A2E9-EEBAFD6BB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F3A26-0513-40E5-B134-7BB45B53A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74318-0E43-4735-8DD8-A8BA8F3A3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C7274-A4C9-40A6-82C9-F5D37C2C8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084F2-DFA3-4CD9-A06E-4A163E3FD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8ED32-0F1B-40D3-91C9-75186D4C15A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4FE36-299C-49F0-BF67-7067E1AADB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86200" y="304560"/>
            <a:ext cx="44956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000"/>
                </a:solidFill>
                <a:latin typeface="Calibri"/>
              </a:rPr>
              <a:t>ECOLOGICAL SUCCES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638320" y="3352680"/>
            <a:ext cx="29718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By Allen Sirolly &amp; Jake Mutchl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1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1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2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2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2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alibri"/>
              </a:rPr>
              <a:t>(&gt;^.^)&gt;</a:t>
            </a:r>
            <a:r>
              <a:rPr b="1" lang="en-US" sz="6000" spc="-1" strike="noStrike" u="sng">
                <a:solidFill>
                  <a:srgbClr val="ffffff"/>
                </a:solidFill>
                <a:uFillTx/>
                <a:latin typeface="Calibri"/>
              </a:rPr>
              <a:t>THE END!!!</a:t>
            </a:r>
            <a:r>
              <a:rPr b="1" lang="en-US" sz="6000" spc="-1" strike="noStrike">
                <a:solidFill>
                  <a:srgbClr val="ffffff"/>
                </a:solidFill>
                <a:latin typeface="Calibri"/>
              </a:rPr>
              <a:t>&lt;(^.^&lt;)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7" name="Group 19"/>
          <p:cNvGrpSpPr/>
          <p:nvPr/>
        </p:nvGrpSpPr>
        <p:grpSpPr>
          <a:xfrm>
            <a:off x="1219320" y="-3962520"/>
            <a:ext cx="6629400" cy="3810240"/>
            <a:chOff x="1219320" y="-3962520"/>
            <a:chExt cx="6629400" cy="3810240"/>
          </a:xfrm>
        </p:grpSpPr>
        <p:pic>
          <p:nvPicPr>
            <p:cNvPr id="98" name="Picture 10" descr="http://www.menunkatuck.org/files/4912/6590/6285/balloons.gif"/>
            <p:cNvPicPr/>
            <p:nvPr/>
          </p:nvPicPr>
          <p:blipFill>
            <a:blip r:embed="rId1"/>
            <a:stretch/>
          </p:blipFill>
          <p:spPr>
            <a:xfrm>
              <a:off x="2895480" y="-3471120"/>
              <a:ext cx="1878480" cy="2794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Picture 14" descr="http://www.menunkatuck.org/files/4912/6590/6285/balloons.gif"/>
            <p:cNvPicPr/>
            <p:nvPr/>
          </p:nvPicPr>
          <p:blipFill>
            <a:blip r:embed="rId2"/>
            <a:stretch/>
          </p:blipFill>
          <p:spPr>
            <a:xfrm>
              <a:off x="6172560" y="-3471120"/>
              <a:ext cx="1676160" cy="2493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" name="Picture 12" descr="http://www.menunkatuck.org/files/4912/6590/6285/balloons.gif"/>
            <p:cNvPicPr/>
            <p:nvPr/>
          </p:nvPicPr>
          <p:blipFill>
            <a:blip r:embed="rId3"/>
            <a:stretch/>
          </p:blipFill>
          <p:spPr>
            <a:xfrm>
              <a:off x="4496040" y="-3962520"/>
              <a:ext cx="2561760" cy="381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" name="Picture 8" descr="http://www.menunkatuck.org/files/4912/6590/6285/balloons.gif"/>
            <p:cNvPicPr/>
            <p:nvPr/>
          </p:nvPicPr>
          <p:blipFill>
            <a:blip r:embed="rId4"/>
            <a:stretch/>
          </p:blipFill>
          <p:spPr>
            <a:xfrm>
              <a:off x="1219320" y="-3606840"/>
              <a:ext cx="1981080" cy="29466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>
    <p:wipe dir="l"/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100"/>
                            </p:stCondLst>
                            <p:childTnLst>
                              <p:par>
                                <p:cTn id="228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200"/>
                            </p:stCondLst>
                            <p:childTnLst>
                              <p:par>
                                <p:cTn id="231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300"/>
                            </p:stCondLst>
                            <p:childTnLst>
                              <p:par>
                                <p:cTn id="234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4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500"/>
                            </p:stCondLst>
                            <p:childTnLst>
                              <p:par>
                                <p:cTn id="240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600"/>
                            </p:stCondLst>
                            <p:childTnLst>
                              <p:par>
                                <p:cTn id="243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700"/>
                            </p:stCondLst>
                            <p:childTnLst>
                              <p:par>
                                <p:cTn id="246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800"/>
                            </p:stCondLst>
                            <p:childTnLst>
                              <p:par>
                                <p:cTn id="249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900"/>
                            </p:stCondLst>
                            <p:childTnLst>
                              <p:par>
                                <p:cTn id="252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5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1100"/>
                            </p:stCondLst>
                            <p:childTnLst>
                              <p:par>
                                <p:cTn id="258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2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6095880" cy="8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Succession!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066320"/>
            <a:ext cx="8229600" cy="22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ucc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a series of changes resulting from a severe disturbance in a commun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disturban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an event that changes a community, removes organisms from it, and alters resource availability. (often a necessity in some communitie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2" descr="http://www.physicalgeography.net/fundamentals/images/succession.gif"/>
          <p:cNvPicPr/>
          <p:nvPr/>
        </p:nvPicPr>
        <p:blipFill>
          <a:blip r:embed="rId1"/>
          <a:stretch/>
        </p:blipFill>
        <p:spPr>
          <a:xfrm>
            <a:off x="1600200" y="3200400"/>
            <a:ext cx="5867280" cy="304164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133360" y="228240"/>
            <a:ext cx="4800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Disturbanc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066320"/>
            <a:ext cx="8229600" cy="17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intermediate disturbance hypothesi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ggests that moderate levels of disturbance can foster higher diversity than low levels of disturban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ties can show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istanc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ilienc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r neith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large-scale fire in Yellowstone National Park in 1988 demonstrated that communities can often respond very rapidly to a massive disturban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8" name="Group 8"/>
          <p:cNvGrpSpPr/>
          <p:nvPr/>
        </p:nvGrpSpPr>
        <p:grpSpPr>
          <a:xfrm>
            <a:off x="609480" y="2971800"/>
            <a:ext cx="8159760" cy="3359160"/>
            <a:chOff x="609480" y="2971800"/>
            <a:chExt cx="8159760" cy="3359160"/>
          </a:xfrm>
        </p:grpSpPr>
        <p:pic>
          <p:nvPicPr>
            <p:cNvPr id="49" name="Picture 2" descr=""/>
            <p:cNvPicPr/>
            <p:nvPr/>
          </p:nvPicPr>
          <p:blipFill>
            <a:blip r:embed="rId1"/>
            <a:stretch/>
          </p:blipFill>
          <p:spPr>
            <a:xfrm>
              <a:off x="609480" y="2971800"/>
              <a:ext cx="7621920" cy="335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Text Box 4"/>
            <p:cNvSpPr/>
            <p:nvPr/>
          </p:nvSpPr>
          <p:spPr>
            <a:xfrm>
              <a:off x="914040" y="5638680"/>
              <a:ext cx="3790800" cy="50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Calibri"/>
                </a:rPr>
                <a:t>Soon after fire. As this photo taken soon after the fire shows, the burn left a patchy landscape. Note the unburned trees in the distance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Text Box 5"/>
            <p:cNvSpPr/>
            <p:nvPr/>
          </p:nvSpPr>
          <p:spPr>
            <a:xfrm>
              <a:off x="4724280" y="5638680"/>
              <a:ext cx="4044960" cy="65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Calibri"/>
                </a:rPr>
                <a:t>One year after fire. This photo of the same general area taken the following year indicates how rapidly the com-munity began to recover. A variety of herbaceous plants, different from those in the former forest, cover the ground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wipe dir="l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Human disturban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Humans are the most widespread agents of disturbanc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Human disturbance to communities usually reduces species diversit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Humans also prevent some naturally occurring disturbances, which can be important to community structu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http://static.howstuffworks.com/gif/nuclear-bomb-test.jpg"/>
          <p:cNvPicPr/>
          <p:nvPr/>
        </p:nvPicPr>
        <p:blipFill>
          <a:blip r:embed="rId1"/>
          <a:stretch/>
        </p:blipFill>
        <p:spPr>
          <a:xfrm>
            <a:off x="5029200" y="609480"/>
            <a:ext cx="2819520" cy="19875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" descr="http://www.cosmosmagazine.com/files/imagecache/news/files/20070511_deforestation.jpg"/>
          <p:cNvPicPr/>
          <p:nvPr/>
        </p:nvPicPr>
        <p:blipFill>
          <a:blip r:embed="rId2"/>
          <a:stretch/>
        </p:blipFill>
        <p:spPr>
          <a:xfrm>
            <a:off x="3581280" y="2133720"/>
            <a:ext cx="2343240" cy="22096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http://www.theproducersperspective.com/.a/6a00e54ef2e21b883301156f477fbc970c-pi"/>
          <p:cNvPicPr/>
          <p:nvPr/>
        </p:nvPicPr>
        <p:blipFill>
          <a:blip r:embed="rId3"/>
          <a:stretch/>
        </p:blipFill>
        <p:spPr>
          <a:xfrm>
            <a:off x="6248520" y="2819520"/>
            <a:ext cx="1963440" cy="28191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"/>
          <p:cNvPicPr/>
          <p:nvPr/>
        </p:nvPicPr>
        <p:blipFill>
          <a:blip r:embed="rId4"/>
          <a:stretch/>
        </p:blipFill>
        <p:spPr>
          <a:xfrm>
            <a:off x="4267080" y="3809880"/>
            <a:ext cx="2055960" cy="266724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ypes of Succes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4039920" cy="422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imary success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6840" y="1676160"/>
            <a:ext cx="4040280" cy="395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llows severe disturbances such as volcanic erup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o soil, vegetation, or life remains. (starting from scratch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1640" y="1142640"/>
            <a:ext cx="4041720" cy="422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Secondary success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647960" y="1676160"/>
            <a:ext cx="404172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isturbance dramatically alters a community, but doesn’t destroy all lif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maining vegetation and soil are the building blocks for successio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res, hurricanes, farming, etc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990720" y="3581280"/>
            <a:ext cx="2819160" cy="23130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3" descr=""/>
          <p:cNvPicPr/>
          <p:nvPr/>
        </p:nvPicPr>
        <p:blipFill>
          <a:blip r:embed="rId2"/>
          <a:stretch/>
        </p:blipFill>
        <p:spPr>
          <a:xfrm>
            <a:off x="5029200" y="4114800"/>
            <a:ext cx="2975040" cy="1981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Pioneer Spec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hese are the species that arrive and colonize the new substrate first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Have adaptations like long roots, root nodes with nitrogen-fixing bacteria, stomata, spores &amp; seeds, etc. for surviving in nutrient-poor soil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Decaying plant litter &amp; eroded rock provides soil for secondary succession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Examples –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Calibri"/>
              </a:rPr>
              <a:t>lichens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, algae, bacteri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ollowed by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Calibri"/>
              </a:rPr>
              <a:t>intermediate species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(stages) until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2" descr="http://upload.wikimedia.org/wikipedia/en/9/9d/Plants_flowers_ice_rocks_lichens_209.jpg"/>
          <p:cNvPicPr/>
          <p:nvPr/>
        </p:nvPicPr>
        <p:blipFill>
          <a:blip r:embed="rId1"/>
          <a:stretch/>
        </p:blipFill>
        <p:spPr>
          <a:xfrm>
            <a:off x="3809880" y="533520"/>
            <a:ext cx="3861000" cy="2895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4" descr="http://upload.wikimedia.org/wikipedia/commons/3/3f/Death_valley_flowers_1.jpg"/>
          <p:cNvPicPr/>
          <p:nvPr/>
        </p:nvPicPr>
        <p:blipFill>
          <a:blip r:embed="rId2"/>
          <a:stretch/>
        </p:blipFill>
        <p:spPr>
          <a:xfrm>
            <a:off x="4267080" y="3581280"/>
            <a:ext cx="3886200" cy="259092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638320" y="304920"/>
            <a:ext cx="300852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Climax Communi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38320" y="1523520"/>
            <a:ext cx="300852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Remains in place with little modification until another disturbance restarts succession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redetermined by climate and soil condition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Once disturbed, the community may never truly revive back to its “climax”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Calibri"/>
              </a:rPr>
              <a:t>Shade tolerance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-- shade intolerant flora (pines) are succeeded by shade tolerant ones (hardwoods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Lots of different theories regarding climax communiti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2" descr="http://multicolouredplanet.com/uploads/718041237/95/1/images/fangorn_forest.jpg"/>
          <p:cNvPicPr/>
          <p:nvPr/>
        </p:nvPicPr>
        <p:blipFill>
          <a:blip r:embed="rId1"/>
          <a:stretch/>
        </p:blipFill>
        <p:spPr>
          <a:xfrm>
            <a:off x="380880" y="457200"/>
            <a:ext cx="4343400" cy="30751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4" descr="http://college2cali.files.wordpress.com/2009/12/california-redwood-2.jpg"/>
          <p:cNvPicPr/>
          <p:nvPr/>
        </p:nvPicPr>
        <p:blipFill>
          <a:blip r:embed="rId2"/>
          <a:stretch/>
        </p:blipFill>
        <p:spPr>
          <a:xfrm>
            <a:off x="1371600" y="3200400"/>
            <a:ext cx="3200400" cy="320040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Group 6"/>
          <p:cNvGrpSpPr/>
          <p:nvPr/>
        </p:nvGrpSpPr>
        <p:grpSpPr>
          <a:xfrm>
            <a:off x="635040" y="227160"/>
            <a:ext cx="7872480" cy="6402240"/>
            <a:chOff x="635040" y="227160"/>
            <a:chExt cx="7872480" cy="6402240"/>
          </a:xfrm>
        </p:grpSpPr>
        <p:pic>
          <p:nvPicPr>
            <p:cNvPr id="74" name="Picture 2" descr=""/>
            <p:cNvPicPr/>
            <p:nvPr/>
          </p:nvPicPr>
          <p:blipFill>
            <a:blip r:embed="rId1"/>
            <a:stretch/>
          </p:blipFill>
          <p:spPr>
            <a:xfrm>
              <a:off x="635040" y="227160"/>
              <a:ext cx="7872480" cy="640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Text Box 4"/>
            <p:cNvSpPr/>
            <p:nvPr/>
          </p:nvSpPr>
          <p:spPr>
            <a:xfrm>
              <a:off x="4021200" y="244440"/>
              <a:ext cx="2793960" cy="19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alibri"/>
                </a:rPr>
                <a:t>Pioneer stage, with fireweed domina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Text Box 5"/>
            <p:cNvSpPr/>
            <p:nvPr/>
          </p:nvSpPr>
          <p:spPr>
            <a:xfrm>
              <a:off x="7475760" y="1531800"/>
              <a:ext cx="96048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Calibri"/>
                </a:rPr>
                <a:t>Dryas</a:t>
              </a:r>
              <a:r>
                <a:rPr b="1" lang="en-US" sz="1200" spc="-1" strike="noStrike">
                  <a:solidFill>
                    <a:srgbClr val="000000"/>
                  </a:solidFill>
                  <a:latin typeface="Calibri"/>
                </a:rPr>
                <a:t> st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Text Box 6"/>
            <p:cNvSpPr/>
            <p:nvPr/>
          </p:nvSpPr>
          <p:spPr>
            <a:xfrm>
              <a:off x="4127400" y="5883480"/>
              <a:ext cx="698400" cy="37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alibri"/>
                </a:rPr>
                <a:t>Spruc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alibri"/>
                </a:rPr>
                <a:t>st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Text Box 7"/>
            <p:cNvSpPr/>
            <p:nvPr/>
          </p:nvSpPr>
          <p:spPr>
            <a:xfrm>
              <a:off x="995400" y="6129360"/>
              <a:ext cx="2720880" cy="39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alibri"/>
                </a:rPr>
                <a:t>Nitrogen fixation by </a:t>
              </a:r>
              <a:r>
                <a:rPr b="1" i="1" lang="en-US" sz="1200" spc="-1" strike="noStrike">
                  <a:solidFill>
                    <a:srgbClr val="000000"/>
                  </a:solidFill>
                  <a:latin typeface="Calibri"/>
                </a:rPr>
                <a:t>Dryas</a:t>
              </a:r>
              <a:r>
                <a:rPr b="1" lang="en-US" sz="1200" spc="-1" strike="noStrike">
                  <a:solidFill>
                    <a:srgbClr val="000000"/>
                  </a:solidFill>
                  <a:latin typeface="Calibri"/>
                </a:rPr>
                <a:t> and ald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alibri"/>
                </a:rPr>
                <a:t>increases the soil nitrogen content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ke succes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219320"/>
            <a:ext cx="3581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ongoing change of types and numbers of species in a freshwater lake community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cess starts with algae, microbes, zooplankton → cattails, rushes, etc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akes slowly shrink, sped up by human interferen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2" descr="Lake Succession"/>
          <p:cNvPicPr/>
          <p:nvPr/>
        </p:nvPicPr>
        <p:blipFill>
          <a:blip r:embed="rId1"/>
          <a:stretch/>
        </p:blipFill>
        <p:spPr>
          <a:xfrm>
            <a:off x="4724280" y="1600200"/>
            <a:ext cx="3211560" cy="409572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1T01:40:29Z</dcterms:created>
  <dc:creator>Allen</dc:creator>
  <dc:description/>
  <dc:language>en-US</dc:language>
  <cp:lastModifiedBy>Allen</cp:lastModifiedBy>
  <dcterms:modified xsi:type="dcterms:W3CDTF">2010-11-13T17:46:25Z</dcterms:modified>
  <cp:revision>27</cp:revision>
  <dc:subject/>
  <dc:title>ECOLOGICAL SUCCESSION</dc:title>
</cp:coreProperties>
</file>